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211-8AB6-4CA8-881D-B5465757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58C-FFEF-4D69-B78D-131E594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27D-3200-497C-9DC1-4F4B1DB0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835-8ACD-4256-A227-4AD97B08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067-C789-42F8-A4F1-2C7B565A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B928-E463-4DBA-9B2F-EE725C6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20D-E425-48EB-AEED-7BEAF04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AF5-5914-4BAF-97BC-1B2CC5D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22F3-9ACA-4E9F-A6E5-083DBC5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A264-0427-4E43-93F5-51F0F87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940D-190D-4753-9E9F-5FE8A34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347-CEC7-42B9-B440-36989DB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16B9-F3AF-4DDE-B62A-FC751C2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A54-207F-49B5-BD2D-230632E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B51-AAF1-4074-8FE7-3FEBE40B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11A6-8E12-4723-97CC-583C1AC6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2BA-C472-4DB0-834A-8AA16697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7ADE-A8E8-4E7F-881F-3CB29428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9269-E008-4EC5-9D63-9BAF2A0E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02D1-7DD9-4A28-9F18-D1183D63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B87C-82CB-4411-BBAA-D705DE0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568B-3F93-4DC4-AF34-AEE5CD51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313-2EE1-467B-8DE7-9D1A344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0A4E-A3DA-483C-8C1F-87F5DB0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ABAC-A43C-42C9-99BB-E1BA911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DC1A-F75E-46CA-9DE7-C87C2D0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F5AF-978E-408C-89BC-AA1C37F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7F73-45C5-4BC5-A65E-F6D73FE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0BA5-0DDE-4B06-A08D-B0070FDD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DD88-0513-467C-AE45-05167E09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2DDB-6B35-4FCA-A2A6-997F5FBD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5085-33DA-439B-8DB6-29A5384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3348-6404-4CFA-B552-E76F087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EC3-DD9C-4F46-8B7F-E4F024A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6051-1430-4688-B136-63FC611D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0631-1A84-4A6D-AF5C-BEE41CD1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4C1E-C505-4B56-B100-AA511E5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A854-1D84-4A3D-A13A-6DB3A82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5EEA-CE74-41F4-80A4-9F88B89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C598-8629-4644-B807-2A9B34E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D4C8-0381-4C9A-983A-610EDCA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8E1D-29A6-4770-BC9F-006BD759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7969-BC95-4BB8-A925-1A0EB006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33BA5-5C56-44D9-BB71-C9A6C346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A83-8EDF-4FC6-AA17-E7E0DB3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FA4F-3087-4ECB-9116-AAC5D846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34E2-D93F-4D81-9E32-E11F072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42E5-2740-4B47-B477-2A3F56A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A7CC-F363-4BBB-9F3E-A4B9608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70AA-1B41-473E-81E7-03B68B4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32F9-F0C4-4B29-992C-ADC07A9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D5F3-FC9E-4A15-90A1-8333F4A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73EF-CF33-45BD-AB20-7D97D78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FF03-CE56-4CC9-8AAE-93B9653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5FF9-F6CA-454B-B034-0B69E4EA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0A8-22BE-434C-8D76-031A5ADB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56E4-0C95-4604-8F59-2CC643FD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20B-DB36-4B61-B1C8-1635566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A3C-B316-4787-BE0B-9F54784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D00-7448-42BA-A0E5-3C467FE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A88E-BD29-450F-900B-2E03280B28F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A6D-5BDF-40E0-A0ED-F0F0708F192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DAA-1215-46BE-B1DE-E5B504026D9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DF2F-663D-42FA-B9E4-B62ECCC8EC0D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7F3-3604-4AF0-A11B-51FA7C8E771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com/calendar/render?tab=mc" TargetMode="External"/><Relationship Id="rId2" Type="http://schemas.openxmlformats.org/officeDocument/2006/relationships/hyperlink" Target="https://docs.google.com/?tab=mo" TargetMode="External"/><Relationship Id="rId3" Type="http://schemas.openxmlformats.org/officeDocument/2006/relationships/hyperlink" Target="http://www.google.ru/webhp?tab=mw" TargetMode="External"/><Relationship Id="rId4" Type="http://schemas.openxmlformats.org/officeDocument/2006/relationships/hyperlink" Target="http://www.google.ru/reader/view/?tab=my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"/>
          <p:cNvPicPr/>
          <p:nvPr/>
        </p:nvPicPr>
        <p:blipFill>
          <a:blip r:embed="rId1"/>
          <a:stretch/>
        </p:blipFill>
        <p:spPr>
          <a:xfrm>
            <a:off x="2484360" y="3357720"/>
            <a:ext cx="4073760" cy="1000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Мастер-класс подготовила М.А. Габова, канд. пед. наук, доце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здаем сайт, или основы сайтостроения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428760"/>
            <a:ext cx="836280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откроется ок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БЕРИТЕ ФАЙ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в новом окне укажите файл + открыть), зате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ОК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йл загрузится с компьют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и размер рисунка на странице можно регулировать: ЛМ на рисунок, выбрать нужное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по левому краю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 центре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по правому краю) + (Размер С-минимум; П-средний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максиму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Рисунок3"/>
          <p:cNvPicPr/>
          <p:nvPr/>
        </p:nvPicPr>
        <p:blipFill>
          <a:blip r:embed="rId1"/>
          <a:stretch/>
        </p:blipFill>
        <p:spPr>
          <a:xfrm>
            <a:off x="785880" y="1214280"/>
            <a:ext cx="6483240" cy="2357640"/>
          </a:xfrm>
          <a:prstGeom prst="rect">
            <a:avLst/>
          </a:prstGeom>
          <a:ln w="0">
            <a:noFill/>
          </a:ln>
        </p:spPr>
      </p:pic>
      <p:sp>
        <p:nvSpPr>
          <p:cNvPr id="263" name="Овал 3"/>
          <p:cNvSpPr/>
          <p:nvPr/>
        </p:nvSpPr>
        <p:spPr>
          <a:xfrm>
            <a:off x="4140360" y="2133720"/>
            <a:ext cx="129528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презентации: способ первый, простой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1267920"/>
            <a:ext cx="82915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гружаем презентацию с компьютера в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риложен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низу страницы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3659" t="30698" r="8533" b="5886"/>
          <a:stretch/>
        </p:blipFill>
        <p:spPr>
          <a:xfrm>
            <a:off x="-235080" y="2276640"/>
            <a:ext cx="9925200" cy="4032000"/>
          </a:xfrm>
          <a:prstGeom prst="rect">
            <a:avLst/>
          </a:prstGeom>
          <a:ln w="0">
            <a:noFill/>
          </a:ln>
        </p:spPr>
      </p:pic>
      <p:sp>
        <p:nvSpPr>
          <p:cNvPr id="267" name="Овал 4"/>
          <p:cNvSpPr/>
          <p:nvPr/>
        </p:nvSpPr>
        <p:spPr>
          <a:xfrm>
            <a:off x="2195640" y="5300640"/>
            <a:ext cx="1224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презентации: способ второй, сложный (но красивый!)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071720"/>
            <a:ext cx="87854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 загрузите презентацию в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документы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Gmai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алендар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е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Read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ещё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роется окно со списком докум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ерит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ГРУЗ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 компьютер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2" descr="Рисунок4"/>
          <p:cNvPicPr/>
          <p:nvPr/>
        </p:nvPicPr>
        <p:blipFill>
          <a:blip r:embed="rId1"/>
          <a:stretch/>
        </p:blipFill>
        <p:spPr>
          <a:xfrm>
            <a:off x="1403280" y="2781360"/>
            <a:ext cx="6267600" cy="2952720"/>
          </a:xfrm>
          <a:prstGeom prst="rect">
            <a:avLst/>
          </a:prstGeom>
          <a:ln w="0">
            <a:noFill/>
          </a:ln>
        </p:spPr>
      </p:pic>
      <p:sp>
        <p:nvSpPr>
          <p:cNvPr id="271" name="Овал 4"/>
          <p:cNvSpPr/>
          <p:nvPr/>
        </p:nvSpPr>
        <p:spPr>
          <a:xfrm>
            <a:off x="2700360" y="1916280"/>
            <a:ext cx="1800360" cy="50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1979640" y="3500280"/>
            <a:ext cx="647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14200"/>
            <a:ext cx="850752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строим совместный доступ, чтобы презентацию на сайте видели все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ерите нужную презентацию, зайдите в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Действ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ОВМЕСТНЫЙ ДОСТУП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6545" t="18261" r="2990" b="11738"/>
          <a:stretch/>
        </p:blipFill>
        <p:spPr>
          <a:xfrm>
            <a:off x="179280" y="1916280"/>
            <a:ext cx="8829720" cy="4752720"/>
          </a:xfrm>
          <a:prstGeom prst="rect">
            <a:avLst/>
          </a:prstGeom>
          <a:ln w="0">
            <a:noFill/>
          </a:ln>
        </p:spPr>
      </p:pic>
      <p:sp>
        <p:nvSpPr>
          <p:cNvPr id="275" name="Овал 3"/>
          <p:cNvSpPr/>
          <p:nvPr/>
        </p:nvSpPr>
        <p:spPr>
          <a:xfrm>
            <a:off x="6227640" y="3573360"/>
            <a:ext cx="1008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5"/>
          <p:cNvSpPr/>
          <p:nvPr/>
        </p:nvSpPr>
        <p:spPr>
          <a:xfrm>
            <a:off x="6372360" y="407664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ткрывшемся ок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р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МЕНИТЬ → Общедоступно в Интерне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30413" t="25851" r="30608" b="20598"/>
          <a:stretch/>
        </p:blipFill>
        <p:spPr>
          <a:xfrm>
            <a:off x="179280" y="836640"/>
            <a:ext cx="4753080" cy="36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rcRect l="31100" t="27951" r="31100" b="22702"/>
          <a:stretch/>
        </p:blipFill>
        <p:spPr>
          <a:xfrm>
            <a:off x="4535640" y="1700280"/>
            <a:ext cx="4608360" cy="338436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5"/>
          <p:cNvSpPr/>
          <p:nvPr/>
        </p:nvSpPr>
        <p:spPr>
          <a:xfrm>
            <a:off x="3564000" y="1773360"/>
            <a:ext cx="936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6"/>
          <p:cNvSpPr/>
          <p:nvPr/>
        </p:nvSpPr>
        <p:spPr>
          <a:xfrm>
            <a:off x="4356000" y="2421000"/>
            <a:ext cx="403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260280"/>
            <a:ext cx="41050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ернитесь на ваш сай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859c"/>
                </a:solidFill>
                <a:latin typeface="Tahoma"/>
              </a:rPr>
              <a:t>Gmail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Календарь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Документы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Веб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Reader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ещё</a:t>
            </a:r>
            <a:r>
              <a:rPr b="0" lang="ru-RU" sz="1600" spc="-1" strike="noStrike">
                <a:solidFill>
                  <a:srgbClr val="31859c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31859c"/>
                </a:solidFill>
                <a:uFillTx/>
                <a:latin typeface="Tahoma"/>
              </a:rPr>
              <a:t>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ЕЩЁ → Треугольник →  Сайты → Ваш Сайт → Редактировать страницу → Вставить → Презентац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Picture 2" descr="Рисунок2"/>
          <p:cNvPicPr/>
          <p:nvPr/>
        </p:nvPicPr>
        <p:blipFill>
          <a:blip r:embed="rId1"/>
          <a:stretch/>
        </p:blipFill>
        <p:spPr>
          <a:xfrm>
            <a:off x="4716360" y="189000"/>
            <a:ext cx="4281480" cy="666900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3"/>
          <p:cNvSpPr/>
          <p:nvPr/>
        </p:nvSpPr>
        <p:spPr>
          <a:xfrm>
            <a:off x="4788000" y="4076640"/>
            <a:ext cx="1655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4"/>
          <p:cNvSpPr/>
          <p:nvPr/>
        </p:nvSpPr>
        <p:spPr>
          <a:xfrm>
            <a:off x="4500720" y="765000"/>
            <a:ext cx="1295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539640" y="981000"/>
            <a:ext cx="71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500"/>
                            </p:stCondLst>
                            <p:childTnLst>
                              <p:par>
                                <p:cTn id="6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467480" cy="725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Устанавливаем домофон: Создание ссылки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96640"/>
            <a:ext cx="81471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выделите название, слова или рисунок, при нажатии на которые должна заработать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ссыл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жмите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СЫЛ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rcRect l="0" t="16455" r="31106" b="26905"/>
          <a:stretch/>
        </p:blipFill>
        <p:spPr>
          <a:xfrm>
            <a:off x="468360" y="2708280"/>
            <a:ext cx="8351640" cy="3863880"/>
          </a:xfrm>
          <a:prstGeom prst="rect">
            <a:avLst/>
          </a:prstGeom>
          <a:ln w="0">
            <a:noFill/>
          </a:ln>
        </p:spPr>
      </p:pic>
      <p:sp>
        <p:nvSpPr>
          <p:cNvPr id="290" name="Овал 5"/>
          <p:cNvSpPr/>
          <p:nvPr/>
        </p:nvSpPr>
        <p:spPr>
          <a:xfrm>
            <a:off x="2411280" y="5157720"/>
            <a:ext cx="46818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6"/>
          <p:cNvSpPr/>
          <p:nvPr/>
        </p:nvSpPr>
        <p:spPr>
          <a:xfrm>
            <a:off x="3780000" y="2852640"/>
            <a:ext cx="647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85480"/>
            <a:ext cx="829152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ткрывшемся окне ЛМ выбирае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еб-адре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вставляем ссылку в окошко +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Страничку сай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забудьте сохранить изменения на страни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Picture 2" descr="Рисунок9"/>
          <p:cNvPicPr/>
          <p:nvPr/>
        </p:nvPicPr>
        <p:blipFill>
          <a:blip r:embed="rId1"/>
          <a:stretch/>
        </p:blipFill>
        <p:spPr>
          <a:xfrm>
            <a:off x="108000" y="1844640"/>
            <a:ext cx="5184720" cy="3809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rcRect l="24506" t="20598" r="38876" b="15353"/>
          <a:stretch/>
        </p:blipFill>
        <p:spPr>
          <a:xfrm>
            <a:off x="4572000" y="1413000"/>
            <a:ext cx="4464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Овал 4"/>
          <p:cNvSpPr/>
          <p:nvPr/>
        </p:nvSpPr>
        <p:spPr>
          <a:xfrm>
            <a:off x="179280" y="2708280"/>
            <a:ext cx="1152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"/>
          <p:cNvSpPr/>
          <p:nvPr/>
        </p:nvSpPr>
        <p:spPr>
          <a:xfrm>
            <a:off x="4643280" y="1844640"/>
            <a:ext cx="1297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nk 3"/>
          <p:cNvSpPr/>
          <p:nvPr/>
        </p:nvSpPr>
        <p:spPr>
          <a:xfrm>
            <a:off x="250920" y="5084640"/>
            <a:ext cx="136440" cy="144720"/>
          </a:xfrm>
          <a:custGeom>
            <a:avLst/>
            <a:gdLst/>
            <a:ahLst/>
            <a:rect l="l" t="t" r="r" b="b"/>
            <a:pathLst>
              <a:path w="378" h="398">
                <a:moveTo>
                  <a:pt x="5556" y="14466"/>
                </a:moveTo>
                <a:lnTo>
                  <a:pt x="5556" y="14585"/>
                </a:lnTo>
                <a:lnTo>
                  <a:pt x="5556" y="14704"/>
                </a:lnTo>
                <a:lnTo>
                  <a:pt x="5556" y="14823"/>
                </a:lnTo>
                <a:lnTo>
                  <a:pt x="5581" y="14817"/>
                </a:lnTo>
                <a:lnTo>
                  <a:pt x="5623" y="14793"/>
                </a:lnTo>
                <a:lnTo>
                  <a:pt x="5636" y="14764"/>
                </a:lnTo>
                <a:lnTo>
                  <a:pt x="5650" y="14734"/>
                </a:lnTo>
                <a:lnTo>
                  <a:pt x="5638" y="14727"/>
                </a:lnTo>
                <a:lnTo>
                  <a:pt x="5655" y="14704"/>
                </a:lnTo>
                <a:lnTo>
                  <a:pt x="5668" y="14687"/>
                </a:lnTo>
                <a:lnTo>
                  <a:pt x="5688" y="14649"/>
                </a:lnTo>
                <a:lnTo>
                  <a:pt x="5695" y="14645"/>
                </a:lnTo>
                <a:lnTo>
                  <a:pt x="5717" y="14634"/>
                </a:lnTo>
                <a:lnTo>
                  <a:pt x="5728" y="14612"/>
                </a:lnTo>
                <a:lnTo>
                  <a:pt x="5755" y="14585"/>
                </a:lnTo>
                <a:lnTo>
                  <a:pt x="5776" y="14564"/>
                </a:lnTo>
                <a:lnTo>
                  <a:pt x="5822" y="14532"/>
                </a:lnTo>
                <a:lnTo>
                  <a:pt x="5834" y="14506"/>
                </a:lnTo>
                <a:lnTo>
                  <a:pt x="5846" y="14478"/>
                </a:lnTo>
                <a:lnTo>
                  <a:pt x="5883" y="14488"/>
                </a:lnTo>
                <a:lnTo>
                  <a:pt x="5894" y="14466"/>
                </a:lnTo>
                <a:lnTo>
                  <a:pt x="5906" y="14441"/>
                </a:lnTo>
                <a:lnTo>
                  <a:pt x="5905" y="14435"/>
                </a:lnTo>
                <a:lnTo>
                  <a:pt x="5933" y="14426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Ink 6"/>
          <p:cNvSpPr/>
          <p:nvPr/>
        </p:nvSpPr>
        <p:spPr>
          <a:xfrm>
            <a:off x="4716360" y="5157720"/>
            <a:ext cx="136800" cy="144360"/>
          </a:xfrm>
          <a:custGeom>
            <a:avLst/>
            <a:gdLst/>
            <a:ahLst/>
            <a:rect l="l" t="t" r="r" b="b"/>
            <a:pathLst>
              <a:path w="378" h="398">
                <a:moveTo>
                  <a:pt x="5556" y="14466"/>
                </a:moveTo>
                <a:lnTo>
                  <a:pt x="5556" y="14585"/>
                </a:lnTo>
                <a:lnTo>
                  <a:pt x="5556" y="14704"/>
                </a:lnTo>
                <a:lnTo>
                  <a:pt x="5556" y="14823"/>
                </a:lnTo>
                <a:lnTo>
                  <a:pt x="5581" y="14817"/>
                </a:lnTo>
                <a:lnTo>
                  <a:pt x="5623" y="14793"/>
                </a:lnTo>
                <a:lnTo>
                  <a:pt x="5636" y="14764"/>
                </a:lnTo>
                <a:lnTo>
                  <a:pt x="5650" y="14734"/>
                </a:lnTo>
                <a:lnTo>
                  <a:pt x="5638" y="14727"/>
                </a:lnTo>
                <a:lnTo>
                  <a:pt x="5655" y="14704"/>
                </a:lnTo>
                <a:lnTo>
                  <a:pt x="5668" y="14687"/>
                </a:lnTo>
                <a:lnTo>
                  <a:pt x="5688" y="14649"/>
                </a:lnTo>
                <a:lnTo>
                  <a:pt x="5695" y="14645"/>
                </a:lnTo>
                <a:lnTo>
                  <a:pt x="5717" y="14634"/>
                </a:lnTo>
                <a:lnTo>
                  <a:pt x="5728" y="14612"/>
                </a:lnTo>
                <a:lnTo>
                  <a:pt x="5755" y="14585"/>
                </a:lnTo>
                <a:lnTo>
                  <a:pt x="5776" y="14564"/>
                </a:lnTo>
                <a:lnTo>
                  <a:pt x="5822" y="14532"/>
                </a:lnTo>
                <a:lnTo>
                  <a:pt x="5834" y="14506"/>
                </a:lnTo>
                <a:lnTo>
                  <a:pt x="5846" y="14478"/>
                </a:lnTo>
                <a:lnTo>
                  <a:pt x="5883" y="14488"/>
                </a:lnTo>
                <a:lnTo>
                  <a:pt x="5894" y="14466"/>
                </a:lnTo>
                <a:lnTo>
                  <a:pt x="5906" y="14441"/>
                </a:lnTo>
                <a:lnTo>
                  <a:pt x="5905" y="14435"/>
                </a:lnTo>
                <a:lnTo>
                  <a:pt x="5933" y="14426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1"/>
          <a:srcRect l="61222" t="11153" r="1569" b="34250"/>
          <a:stretch/>
        </p:blipFill>
        <p:spPr>
          <a:xfrm>
            <a:off x="2124000" y="2997360"/>
            <a:ext cx="4535640" cy="37447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Дополнительные действия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34136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стройки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еремещение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даление страницы и друг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 также управление сайт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Овал 4"/>
          <p:cNvSpPr/>
          <p:nvPr/>
        </p:nvSpPr>
        <p:spPr>
          <a:xfrm>
            <a:off x="5003640" y="2924280"/>
            <a:ext cx="1944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ерепланировка: изменяем оформление  сайт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981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Заходим в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Управление сайтом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0" t="8003" r="35333" b="8003"/>
          <a:stretch/>
        </p:blipFill>
        <p:spPr>
          <a:xfrm>
            <a:off x="611280" y="1533600"/>
            <a:ext cx="7129440" cy="5207040"/>
          </a:xfrm>
          <a:prstGeom prst="rect">
            <a:avLst/>
          </a:prstGeom>
          <a:ln w="0">
            <a:noFill/>
          </a:ln>
        </p:spPr>
      </p:pic>
      <p:sp>
        <p:nvSpPr>
          <p:cNvPr id="306" name="Овал 4"/>
          <p:cNvSpPr/>
          <p:nvPr/>
        </p:nvSpPr>
        <p:spPr>
          <a:xfrm>
            <a:off x="468360" y="5229360"/>
            <a:ext cx="158256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5"/>
          <p:cNvSpPr/>
          <p:nvPr/>
        </p:nvSpPr>
        <p:spPr>
          <a:xfrm>
            <a:off x="2050920" y="2852640"/>
            <a:ext cx="1729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Наши основные инструменты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7164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М – левая кнопка мы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М – правая кнопка мы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аузе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31004" t="12203" r="31197" b="6950"/>
          <a:stretch/>
        </p:blipFill>
        <p:spPr>
          <a:xfrm>
            <a:off x="324000" y="1052640"/>
            <a:ext cx="4608360" cy="55450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ерепланировка: изменяем оформление  сайт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rcRect l="3864" t="12024" r="38165" b="5533"/>
          <a:stretch/>
        </p:blipFill>
        <p:spPr>
          <a:xfrm>
            <a:off x="4822920" y="1700280"/>
            <a:ext cx="4321080" cy="345744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6"/>
          <p:cNvSpPr/>
          <p:nvPr/>
        </p:nvSpPr>
        <p:spPr>
          <a:xfrm>
            <a:off x="395280" y="3860640"/>
            <a:ext cx="2952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7"/>
          <p:cNvSpPr/>
          <p:nvPr/>
        </p:nvSpPr>
        <p:spPr>
          <a:xfrm>
            <a:off x="5724360" y="2781360"/>
            <a:ext cx="3419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Красим, декорируем…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rcRect l="0" t="7818" r="0" b="4630"/>
          <a:stretch/>
        </p:blipFill>
        <p:spPr>
          <a:xfrm>
            <a:off x="0" y="1125360"/>
            <a:ext cx="8918640" cy="4967640"/>
          </a:xfrm>
          <a:prstGeom prst="rect">
            <a:avLst/>
          </a:prstGeom>
          <a:ln w="0">
            <a:noFill/>
          </a:ln>
        </p:spPr>
      </p:pic>
      <p:sp>
        <p:nvSpPr>
          <p:cNvPr id="316" name="Овал 4"/>
          <p:cNvSpPr/>
          <p:nvPr/>
        </p:nvSpPr>
        <p:spPr>
          <a:xfrm>
            <a:off x="0" y="4221000"/>
            <a:ext cx="118728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адуемся созданной красоте!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00000" y="342864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Успешного строительства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Прежде чем приступать к строительству…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Разрабатываем проект сай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ма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о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ние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связи странич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едставляемся строительной бригаде: Входим в свой аккаунт Гугл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rcRect l="0" t="0" r="0" b="38755"/>
          <a:stretch/>
        </p:blipFill>
        <p:spPr>
          <a:xfrm>
            <a:off x="25092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4"/>
          <p:cNvSpPr/>
          <p:nvPr/>
        </p:nvSpPr>
        <p:spPr>
          <a:xfrm>
            <a:off x="6300720" y="2349360"/>
            <a:ext cx="2592360" cy="23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кладываем фундамент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ходим в конструктор сайтов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4920" y="1773360"/>
            <a:ext cx="84978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на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треугольни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Верхний угол, слева, после слова «ещё»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Сайты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ЛМ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рывается страница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c00000"/>
                </a:solidFill>
                <a:latin typeface="Tahoma"/>
              </a:rPr>
              <a:t>Google C</a:t>
            </a:r>
            <a:r>
              <a:rPr b="1" lang="ru-RU" sz="2600" spc="-1" strike="noStrike">
                <a:solidFill>
                  <a:srgbClr val="c00000"/>
                </a:solidFill>
                <a:latin typeface="Tahoma"/>
              </a:rPr>
              <a:t>айт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(ЛМ)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«Создать новый сайт»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16000" y="3429000"/>
          <a:ext cx="6335640" cy="576360"/>
        </p:xfrm>
        <a:graphic>
          <a:graphicData uri="http://schemas.openxmlformats.org/drawingml/2006/table">
            <a:tbl>
              <a:tblPr/>
              <a:tblGrid>
                <a:gridCol w="633564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1324"/>
                          </a:solidFill>
                          <a:latin typeface="Arial"/>
                          <a:ea typeface="Times New Roman"/>
                        </a:rPr>
                        <a:t>Gmai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Календар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Докумен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Ве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Reade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ещё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Овал 4"/>
          <p:cNvSpPr/>
          <p:nvPr/>
        </p:nvSpPr>
        <p:spPr>
          <a:xfrm>
            <a:off x="5003640" y="3357720"/>
            <a:ext cx="2890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кладываем фундамент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оздаём сайт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3640" y="1699920"/>
            <a:ext cx="85690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устой шаблон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аём</a:t>
            </a:r>
            <a:r>
              <a:rPr b="0" lang="ru-RU" sz="2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название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айту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Выбираем тему – оформление сайта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ЛМ на плюсик слева «+», открывается галерея, нажимаем ЛК на понравившийся шаблон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Дополнительные параметры</a:t>
            </a:r>
            <a:r>
              <a:rPr b="0" lang="ru-RU" sz="26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жмём ЛМ на «+»; даём описание сайту; выбираем общий доступ) – этот шаг можно пропусти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нимательно вводи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показанный код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жимаем </a:t>
            </a:r>
            <a:r>
              <a:rPr b="1" i="1" lang="ru-RU" sz="2600" spc="-1" strike="noStrike">
                <a:solidFill>
                  <a:srgbClr val="0070c0"/>
                </a:solidFill>
                <a:latin typeface="Tahoma"/>
              </a:rPr>
              <a:t>Создать сайт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озводим стены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оздание страницы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000" y="144792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«ЛМ»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води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название страницы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(там мигает курсор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шаблон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«Веб-страница»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местоположение страниц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600" spc="-1" strike="noStrike">
                <a:solidFill>
                  <a:srgbClr val="0070c0"/>
                </a:solidFill>
                <a:latin typeface="Tahoma"/>
              </a:rPr>
              <a:t>СОЗДАТЬ СТРАНИЦ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Открывается созданная страница, которую можно и нужно редактировать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58920" y="2060640"/>
          <a:ext cx="2714760" cy="428400"/>
        </p:xfrm>
        <a:graphic>
          <a:graphicData uri="http://schemas.openxmlformats.org/drawingml/2006/table">
            <a:tbl>
              <a:tblPr/>
              <a:tblGrid>
                <a:gridCol w="271476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7933c"/>
                          </a:solidFill>
                          <a:latin typeface="Verdana"/>
                          <a:ea typeface="Times New Roman"/>
                        </a:rPr>
                        <a:t>+ СОЗДАТЬ СТРАНИЦ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ahoma"/>
              </a:rPr>
              <a:t>Планировка «квартир»: РЕДАКТИРОВАНИЕ СТРАНИЦ</a:t>
            </a:r>
            <a:endParaRPr b="0" lang="en-US" sz="29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14300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редактирования страницы ЛМ н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ДАКТИРОВАТЬ СТРАНИЦ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ираем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макет страниц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ЛМ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КЕ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левый угол, вверху, откроется окно, выбрать понравившийся макет Л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бираем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необходимый текс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используя панель редактирования тек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яем изменения – 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(вверху, спра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7360" indent="-207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2" descr="СЛАЙД №3"/>
          <p:cNvPicPr/>
          <p:nvPr/>
        </p:nvPicPr>
        <p:blipFill>
          <a:blip r:embed="rId1"/>
          <a:stretch/>
        </p:blipFill>
        <p:spPr>
          <a:xfrm>
            <a:off x="611280" y="5373720"/>
            <a:ext cx="7572240" cy="655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Рисунок1"/>
          <p:cNvPicPr/>
          <p:nvPr/>
        </p:nvPicPr>
        <p:blipFill>
          <a:blip r:embed="rId2"/>
          <a:stretch/>
        </p:blipFill>
        <p:spPr>
          <a:xfrm>
            <a:off x="2843280" y="1557360"/>
            <a:ext cx="5256000" cy="198900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5"/>
          <p:cNvSpPr/>
          <p:nvPr/>
        </p:nvSpPr>
        <p:spPr>
          <a:xfrm>
            <a:off x="4788000" y="1557360"/>
            <a:ext cx="1728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6"/>
          <p:cNvSpPr/>
          <p:nvPr/>
        </p:nvSpPr>
        <p:spPr>
          <a:xfrm>
            <a:off x="6875640" y="5300640"/>
            <a:ext cx="792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7"/>
          <p:cNvSpPr/>
          <p:nvPr/>
        </p:nvSpPr>
        <p:spPr>
          <a:xfrm>
            <a:off x="395280" y="5805360"/>
            <a:ext cx="482436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8"/>
          <p:cNvSpPr/>
          <p:nvPr/>
        </p:nvSpPr>
        <p:spPr>
          <a:xfrm>
            <a:off x="1763640" y="5589720"/>
            <a:ext cx="360360" cy="21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Ставим окна, двери и т.п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тавка рисунка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4920" y="105228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ТАВИ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левый верхний угол), откроется ок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rcRect l="0" t="5137" r="31614" b="7535"/>
          <a:stretch/>
        </p:blipFill>
        <p:spPr>
          <a:xfrm>
            <a:off x="1763640" y="1628640"/>
            <a:ext cx="6912000" cy="496584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5"/>
          <p:cNvSpPr/>
          <p:nvPr/>
        </p:nvSpPr>
        <p:spPr>
          <a:xfrm>
            <a:off x="900000" y="2060640"/>
            <a:ext cx="2735280" cy="4797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6"/>
          <p:cNvSpPr/>
          <p:nvPr/>
        </p:nvSpPr>
        <p:spPr>
          <a:xfrm>
            <a:off x="1547640" y="220500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бов Сергей</cp:lastModifiedBy>
  <dcterms:modified xsi:type="dcterms:W3CDTF">2011-04-15T16:24:57Z</dcterms:modified>
  <cp:revision>51</cp:revision>
  <dc:subject/>
  <dc:title>Слайд 1</dc:title>
</cp:coreProperties>
</file>